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B47-AB2B-4561-B81D-C1717431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CEA-135E-46DF-9C9E-7E0F940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86B-6F16-400D-9F1D-89A08C7B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D2A-E77A-4070-9D11-C3205B96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673-AD0C-416C-91C0-8421F721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2E8-66A4-462B-A573-0D17A8A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A72-7934-4DF5-9C6D-968C3A4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B23-2174-4072-BCAD-1701750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D02-75D1-43E9-A7FD-9331A1E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D7E-2EA4-4D41-89DB-148E3A1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CDE-A758-41DD-B4A9-A4FF8A5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5BC-AA32-4693-9391-7818E706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38C8-2BDE-4238-9961-533B98B9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Me llamo ___________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  Clase 801</a:t>
            </a:r>
            <a:br>
              <a:rPr sz="3800"/>
            </a:b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La fecha es el 6 de nov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2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thout looking in your notes, try to label as many body part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833560" y="3276720"/>
            <a:ext cx="32958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Line 7"/>
          <p:cNvSpPr/>
          <p:nvPr/>
        </p:nvSpPr>
        <p:spPr>
          <a:xfrm flipH="1">
            <a:off x="243792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28195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4191120" y="3429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4114800" y="3886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4114800" y="41148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9047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51814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H="1">
            <a:off x="25905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819160" y="5562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64832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133720" y="5105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4267080" y="49528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8672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s o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02920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na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9436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b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2053080" y="351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4820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802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564084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616788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6629400" y="6248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752480" y="51814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2286000" y="46483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152604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8"/>
          <p:cNvSpPr/>
          <p:nvPr/>
        </p:nvSpPr>
        <p:spPr>
          <a:xfrm>
            <a:off x="251676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523880" y="37339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or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3352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el o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cucha y decid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en and complete the chart indicating whether each one is correct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3276720"/>
          <a:ext cx="6096240" cy="2966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7357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00200" y="3276720"/>
          <a:ext cx="6324480" cy="3627360"/>
        </p:xfrm>
        <a:graphic>
          <a:graphicData uri="http://schemas.openxmlformats.org/drawingml/2006/table">
            <a:tbl>
              <a:tblPr/>
              <a:tblGrid>
                <a:gridCol w="3276720"/>
                <a:gridCol w="304776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42"/>
          <p:cNvSpPr/>
          <p:nvPr/>
        </p:nvSpPr>
        <p:spPr>
          <a:xfrm>
            <a:off x="495288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4952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495288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495288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4952880" y="5943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952880" y="6415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4-11-05T21:05:23Z</cp:lastPrinted>
  <dcterms:modified xsi:type="dcterms:W3CDTF">2014-11-05T21:30:15Z</dcterms:modified>
  <cp:revision>22</cp:revision>
  <dc:subject/>
  <dc:title>Me llamo ___________  Clase 7 IM La fecha es el 18 de noviembre del 2010</dc:title>
</cp:coreProperties>
</file>